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69E-595B-464F-B8EF-9DE343CD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1C4-FBBC-4BBE-B2DF-1E038F67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4BBD6-0DC3-463F-8857-969D6B22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1EB40-0A01-4DA7-8463-95ABA0A6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0A443-A673-4CBC-AA8D-CDC93287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EE618-9B3A-4D73-BAC4-9D53C8E1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45A90-0643-4492-9CB6-A7012EC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560B2-6232-4291-BF89-4CFE9359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C9D89-5C03-4858-AC44-04BE7679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7224D-9C06-4A59-B97C-598BBE4A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C2FCD-E956-4B9E-9239-D0D22CEB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24DCF-31B9-418D-B85E-36AD4D42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E8F-5CBA-4474-94AD-0FC0C6A1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35E9C-5C0D-4B30-8028-1146A82A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3CAD9-D1D8-4049-957B-38C026D7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10D48-5DA5-41E7-A940-5087622E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549B3-9454-41F7-8922-3FF331F9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CC79D-ED5F-4C88-8155-A827A29D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8AEF2-2CFB-46EF-89D2-B6A18580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04730-3FA4-4FE0-9B1F-C0119AF8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F3FC3-B74E-4D54-A9A5-EDAADF24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75B36-1456-49E1-95B4-A681DE41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0C920-EFE8-4B7C-9DE4-D4FD8C63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571-7F99-4E72-8AD4-DD707288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8FC63-A2B9-47D1-9E1D-D2801334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6D9B5-6F24-4196-BB76-E77D2AB9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49108-628F-451F-A1DF-F599FCE7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29D76-16F9-4031-A2E1-357766EC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ABD11-133E-47F3-AD9B-30C85D7D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1B8E4-DF73-43C6-85BE-392F67CB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A82AF-E15D-49A0-B7A0-8A7BCF96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49A98-93AA-4057-8233-6FC1E79A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3421F-3250-4AB9-BB23-AEA8FA0C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CF0CC-510A-4B7F-A847-BB598C5C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8BE4-E8E8-4DE0-9F8B-A8706A40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EB676-0135-4A1B-92A5-26914D97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71DB8-D508-4969-B7F1-E290F19A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CBD04-5AD3-4249-9ED3-4BA191DB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37B29-59D2-45BD-A445-8C15D06C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2D111-7DD6-4134-86E2-C6832D30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86531-480D-4272-9A30-1DA53384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14D33-31FA-4C3C-BC9C-43EDD012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C0A4C-D8E3-4AAF-8DB7-4F18416E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2B158-C18C-4728-9C4A-44E43017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51CA4-6939-49A0-88F4-7B0AC33C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C2FE-CB48-4D59-919A-F0C19838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672DA-DEB1-4254-B2DA-0D36E862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44981-F1DB-4D1D-99FE-60BB6D90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61DD1-27DF-402C-A0DD-5E9A863D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E06B4-9DE5-480F-9139-07EF48B9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79F96-4649-454B-823C-3A4C4782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B0669-6E92-4099-89D2-5555E978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8DDF1-FC46-4BA9-85A3-DCC6BB9F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B49B3-D892-4D67-8353-42A70BA3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8EFFD-ECD4-4FF0-B375-CB4D7673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B72B0-1F03-4E4B-8400-630F7C95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553D-BB73-41EB-8A2B-B01BF768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A59CD-D373-4EC5-A1FB-0086367F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1BF10-3F53-49AD-AFDE-91679F81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22B12-AB9F-4FC9-8D13-4A8F1923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8BE70-727B-452B-B082-DE58C7FF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95DDC-C4E1-4EA5-BCEA-656D28CC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5C311-68DC-4910-84AE-8D4DCFB8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5E18F-7EFC-4359-B5B9-4FAE21D3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DC508-47C9-4418-B0D6-D5466D23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1578B-AEB9-4991-BC3F-337F7FBF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0A9A7-AD07-4DBE-968D-29EAD102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7879-7DBD-4BC7-8572-1215DD1B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560EA-3361-423A-8EC3-33E10A4F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FDFF1-0689-4D58-A87A-6646900C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8207F-C09E-40BA-BF97-1EA057DE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F3AC34-91F7-4688-97F8-D931F136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DED3F-0AED-493E-B0D7-3CA1257F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4CC2A-C235-461D-AF12-61D2F79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EE4956-2807-4AD4-8547-23A99A40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13DE9-7B61-4960-B0D5-AD86D66F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6F5CF-0978-4EC6-9E56-0E1EE15E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86916-29E3-49DE-BDCB-9D3E4472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AC36-C2E9-4E65-BEE8-ACFB017B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E09F1-B72B-444C-AFA4-B1C8610A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AA3F6-60ED-4B14-8D9D-A888523D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AC3E1-3552-477F-902B-F5279ADC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A22AF-0390-41FE-94CF-E3D3B233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93580-C4A8-4C16-BB5B-169C5259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903DE-0353-43A8-8F09-8F660831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A6BA7C-A317-4C20-B0CC-6E2035B2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D7AD0-5F23-4951-9826-90C8AD1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DF4A1-73C0-4550-9462-53142CC9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F196E-FF7B-44A2-840F-440B99F9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3279-BBCA-4746-A3A8-0E7E4CA2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94497-8E3B-4629-8F82-95710764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8C4C37-C5E0-44D5-973E-20DA9DA5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3B8091-1518-494B-A43D-7FECF9E1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0C0E3-755B-42D5-BC42-34F4F343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19B15-5855-4249-81EA-EF9B97A3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950C9-A04C-425A-9104-8B75F69E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AF25E-8837-4E90-8FBC-4746B59A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1DA080-61CB-4EC7-8EE7-0D3151F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E4B9AB-8878-4B71-91D2-F4E8153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0097BE-773E-4EFA-90D8-C70E6D3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D720-1C76-4CAB-B73C-0B8013B2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3F2E64-0F95-44A5-8FD6-611191D9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73A574-5D00-4A1B-A0BF-0CFEAB82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9B355-C12A-4290-B50C-FD4D1194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DD0183-4ABF-4667-AA23-F8A965CB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0B128-BD9F-4940-866B-461E3FA9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E3FEF6-1D5A-49B9-A69F-D15B89E6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40EBE6-4A78-471D-A24A-9ADFB2CF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32677-5618-418C-9E64-DE51AD1D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5CF77-3FC0-4436-92AB-BD783994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17D31-251A-4C81-B4ED-7DBDB128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669-3087-4909-B90A-11A8820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ED4F-8A17-4088-BD0A-0D97CC97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663C12-123D-428A-A3F2-39FC918A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751D3-DF17-46F2-98EA-70A1A04A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CAFDE-D57D-4316-B011-D656D841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75DD9-B9B0-475B-8678-201C39DB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7482D-3160-4F15-AD45-45202CB8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A8CC6-E791-4C1A-989E-96BB1C36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A5489B-BB5C-41AD-8A7E-AA48E85C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ED4BA-4320-4B7E-81AD-B4B7E471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79C6D-B2C2-433A-8254-C402DD90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A2E6F2-D9C2-4062-BA12-43879BFB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0C04-B0FE-4CEF-900B-0DC4D00E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38BD1-14C7-4734-9B41-12E1E33A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033579-92CA-4BE7-BB88-B6FCC267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497BB-4812-4B2F-991B-9F15104B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80BD4-9E53-411F-AA95-B8FC3523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86AB0-3981-411D-8901-698D151B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DBC597-655E-4D5C-9EA5-86649EB4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493365-46C7-4930-A881-0B7309F6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55BBD5-301B-44AA-8953-C0F4A062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D91C42-EF0D-4216-B0C4-AD5C33DB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14CCB3-3336-4F4F-920D-BE5706F5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F013-D9AC-4DE0-BD12-4C1B758C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EEB496-85D1-4852-AD50-21D67989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C149D7-D56E-4C36-B85E-DB2C2F33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576D9-8CD7-4AF8-81E8-6D5DA29A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D984D7-36BB-4A92-BC69-C713D7C5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A4CA1-FEE3-403B-A0BE-83F5D8D5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DB6D28-5640-4167-BCC5-23BF14E8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95ACF-AB26-4698-AF5C-16792295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F5C7B-CE96-4480-91A4-015E04DE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64A479-9137-445C-A845-59AAE231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7A8BC7-3EBE-41F0-A6FE-6DA9927C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6B3C-6CFC-43FD-84C8-34C8D816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73B7E7-90CB-40CC-B4E3-D56947FD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883928-A2FB-42AD-8ED7-B17E27F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5F39F9-AFC2-401C-B972-BB6A7D17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BC7D3E-FEB9-4296-958C-576D1A21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03707-1257-42F4-887C-BACF42CC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53C5E-AF62-484E-B424-BD48A36D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48B40-31D4-44A3-A7B2-D96DDEFA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C1293-A46B-4F97-8664-429BF566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DDB91D-BA42-4C31-87BE-4C208BCF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6A6A2E-5860-4FB0-A753-D738D6B0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3234-4284-4F3B-9AC1-473F051A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7115B-18FF-465F-9FFA-02E747F2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C5CAB-A47F-42C3-9CB8-A7CF30B7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F3157C-F9CC-4AB9-94DD-2ADB2A50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D158C0-58A8-4906-AF81-7672579F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37558-EF9A-41F6-A08F-34CAA303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EB65FD-CE1F-4A10-B67F-456AE3A2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60750-EDBB-4740-998D-A3550AF0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CDF1D-D26B-4907-ADEE-AF2DF378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5AA4E9-C85B-4130-A27D-E11EC135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BDA6F8-E090-4CE8-8088-44DE874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2E03-767F-40EA-8960-2BEB5347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2C44C-417A-4622-AE94-525FCA2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4BCFBE-1E53-48DB-A7FA-A29325DE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08238F-D1C0-4FD8-9535-B8A4B5D9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9CC5-0F27-4FCC-9D69-9AB103FC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57022-8227-4CD8-9B23-72BEA2A5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CEB0-FFFD-41E6-BA5E-AD0B9339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61D56-CB2E-458A-8605-5C2E680A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A95-5318-4536-BFB3-09BB3842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847C3-30A4-4C21-B72A-A20538ED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54BBE-2F3D-40EB-A2D0-192D4194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4BB6-3729-47C7-8AAC-47BD6D0E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4B76-4A23-4B60-9A46-26AB030F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D1DD-5365-4A62-8F0B-18AA17EE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68E3-70D2-41CA-934C-802D7554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A20B-FD40-4E76-A472-BD771DF4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20C9-BDD3-4212-91C8-DD07F4A0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3ECE-8949-4A0C-92E0-042FC3BE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00657-39A9-4207-9D96-3095A80F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790-ED9D-42D0-8A33-9F493966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FE9EF-80E4-47D0-BD8D-A527A147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28C31-EFB6-4006-88CA-F2EDB3E5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22E6-936C-4146-BC4E-3B36C16D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87776-B466-4FA7-A726-601B598B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E9913-2BCF-4C3D-B2CC-E885DC2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AD5B-626E-4464-814E-E9EFB4CF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1BF89-89BC-438E-8567-A726EDBF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F71B4-943C-4D08-8A3E-77D83BC8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EB38C-89FB-47E1-9B28-EF7081C6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CC489-CB6A-4303-803E-A45D38FD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D66-00A8-409B-9B7A-606A3BDB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66C6C-F872-4E4F-9704-A249495D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95C2E-FF76-4304-9D05-1230E4B7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FE81-CA2C-47A2-B4BB-176EFAF9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A039B-46FA-43BA-87A0-1CE6D80E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C56E5-6A3C-45A7-A2AF-11AC21A2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14D51-E59C-4573-9767-6C3BC1EA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785F-7BC2-41F9-9888-CB17ADE4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1B50A-6D89-400F-A96D-F9917221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FFB0A-ED03-40C0-BA9F-A974FB9B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367F3-6FBA-44A1-8676-E9E5D3B8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054-02DA-4EC8-8B63-B0A2C40C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7E38A-2A64-4636-A1C3-DAD0622F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4297-9946-47B9-BB4F-4329901D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C5B38-4788-4BA4-AF8C-2886EA8C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F1933-B002-4C2A-8B9D-3AE1FF20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2EED8-AE43-4625-80F5-CFDB5E41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2964D-6235-4ED4-8F6B-623F64A3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46CEF-634F-44E3-825F-BDD73FD8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23F2E-A054-4DF1-8160-6DC9E506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41619-C4CA-4D20-8FB5-E1E5D0C8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097CE-AA20-4B92-B038-8432F8CB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29A-19F8-46DC-AA24-DA519E26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055B0-E626-45BD-B299-7EDCE3AC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CA360-A9F4-40DB-A559-EE60D7C1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5D5DF-87EA-494B-9CCA-A241C63B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BBDE7-99E2-4A47-B938-EAD78FAE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5D575-374A-4C52-9C33-800DD73F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70A60-84B0-4DA8-AF0A-7051FA68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004CC-ED03-46A7-AC8E-343F579E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29446-514A-4255-96A0-72DB8D18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60A48-577A-4250-9FFB-FF83B43F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6B211-386A-43A6-9625-7089CA26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31C-8F32-4C0D-A9E8-15E75698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7530A-8B02-47F4-BF8B-C4751DF7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8927A-8E87-4D76-8C75-64ACC1B0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51543-533D-40DE-8AB0-1792F19E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BB0C9-00B9-41F0-91D6-EA41D4DE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3FFBC-EAA6-40B3-82F4-36445463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AD89E-1DB7-4DCA-8816-660AE455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3E069-DFB1-4038-9FCF-ED61E772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C2059-0348-4CF9-A161-4E3572E3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1C89A-465A-4A6B-8918-2287DDC4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46760-9193-4321-AF02-EAEBECDF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60C-AA5A-4284-894C-D5A0CE6E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04A80-3B5D-40AE-9B73-76E88A06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D1294-08EF-493D-B12D-901D07A0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2921-FD05-4214-8118-D9CFED4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DC8BA-55E2-427F-82A7-84EA2E80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8F84A-2DED-40B5-9EFE-459C5279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D853E-1E5A-4657-A96A-6B9B3141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6E994-85C5-4FF2-B99D-6F08DE1B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6D89D-9268-4CED-8116-B6E6A2B2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F7AB0-6F03-4837-A29F-A67E8658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9500B-F110-4F70-B033-A575F0BD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85DD-000A-40A4-9F50-BE9940082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A60D-D4CB-4B4E-921F-71C397C5D6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48A8-E9DE-4E5D-9AB7-C6B11EA938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0530-B37F-4EB1-B2B8-F1B753F466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333F-29C5-4C85-9EE3-1C7F81201B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209E-BED5-4A3C-865E-D8E916D033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60E9-8D76-4BF9-B56E-DB5509A02D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5CFD-9EE6-4E89-8D95-D349CCCEAA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B625-0527-485D-8A72-5D7E6B8442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BEBE-4BEF-4705-AEC3-9384EBFCD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8F2A-C6ED-470D-A00D-86FCD2D112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2A0B-42DE-48B9-95B9-678AF5F341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A927-6C7D-4592-BEF5-ADC18C52A8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A45B-34DB-4890-B5DF-49B650E6BA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8190-B3B4-4987-AD8F-528CF26EB8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26F8-714E-4AC5-9170-09B7ED2130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D673-C65A-41C9-892B-A7CC9AC211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2BF2-AE45-4C23-AE87-B4CB1DEB3F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2EB5-DA21-492C-B40F-7A62195D51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5683-611F-4429-9796-770BFB835E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A246-D92F-4FF9-9890-C25CC121FC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3241-179F-46AB-A8B7-EF8081EE32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004C-6B77-4E33-80EC-6631860F2E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2EA8-D659-46BE-83A2-A91EDEED43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E864-8E3B-4398-9A0F-B0DCEE415B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5D14-9776-4A4A-AE71-82A056C253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8126-3F12-4A62-9A8D-9EF72CD2FD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D9D2-E232-4866-8057-AAD6D1BE4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D08F-B8CB-4D22-9DDB-01F9CCC7EB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BFEE-B266-4EA7-AEE8-CB0B3F9239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D7AE-D14C-48BB-900E-73B29AC348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617B-AD47-418B-A5D4-0510467DF8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A762-92B5-4B74-9E3A-E32A529499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6A86-C16F-4719-8BBD-AD3F8F6F03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696B-077B-4378-80BE-6456D836E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6898-744A-4918-962D-64FEACF691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4C57-07D6-41A6-83E3-3A8D48AD0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6805-BD41-4DF0-BBA8-28DB1F0315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6CD3-A689-4332-8386-07CC37C7C7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FE18-34B7-41CF-AD97-D9DB4891AF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852480" y="2502000"/>
            <a:ext cx="7439040" cy="76176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247840" y="4033800"/>
            <a:ext cx="4857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28520" y="1719360"/>
            <a:ext cx="8885160" cy="341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1042920" y="22906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04292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042920" y="34718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04292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971640" y="4653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33200" y="138240"/>
            <a:ext cx="8877600" cy="658152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5122" descr=""/>
          <p:cNvPicPr/>
          <p:nvPr/>
        </p:nvPicPr>
        <p:blipFill>
          <a:blip r:embed="rId2"/>
          <a:stretch/>
        </p:blipFill>
        <p:spPr>
          <a:xfrm>
            <a:off x="6227640" y="2838600"/>
            <a:ext cx="1800360" cy="54432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5123" descr=""/>
          <p:cNvPicPr/>
          <p:nvPr/>
        </p:nvPicPr>
        <p:blipFill>
          <a:blip r:embed="rId3"/>
          <a:stretch/>
        </p:blipFill>
        <p:spPr>
          <a:xfrm>
            <a:off x="3174840" y="4307040"/>
            <a:ext cx="1800360" cy="54432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5124" descr=""/>
          <p:cNvPicPr/>
          <p:nvPr/>
        </p:nvPicPr>
        <p:blipFill>
          <a:blip r:embed="rId4"/>
          <a:stretch/>
        </p:blipFill>
        <p:spPr>
          <a:xfrm>
            <a:off x="6343560" y="4307040"/>
            <a:ext cx="2405160" cy="54432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5125" descr=""/>
          <p:cNvPicPr/>
          <p:nvPr/>
        </p:nvPicPr>
        <p:blipFill>
          <a:blip r:embed="rId5"/>
          <a:stretch/>
        </p:blipFill>
        <p:spPr>
          <a:xfrm>
            <a:off x="3521160" y="5748480"/>
            <a:ext cx="1800000" cy="54432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126" descr=""/>
          <p:cNvPicPr/>
          <p:nvPr/>
        </p:nvPicPr>
        <p:blipFill>
          <a:blip r:embed="rId6"/>
          <a:stretch/>
        </p:blipFill>
        <p:spPr>
          <a:xfrm>
            <a:off x="7221600" y="5762520"/>
            <a:ext cx="145404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76320" y="1428840"/>
            <a:ext cx="8991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42960" y="2004840"/>
            <a:ext cx="7856640" cy="2848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971640" y="2565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97164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971640" y="43070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4:03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